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lzipup01.wav" ContentType="audio/x-wav"/>
  <Override PartName="/ppt/media/highchime.wav" ContentType="audio/x-wav"/>
  <Override PartName="/ppt/media/hzipup01.wav" ContentType="audio/x-wav"/>
  <Override PartName="/ppt/media/jetflyby2.wav" ContentType="audio/x-wav"/>
  <Override PartName="/ppt/media/bserie06.wav" ContentType="audio/x-wav"/>
  <Override PartName="/ppt/media/zapbig0g.wav" ContentType="audio/x-wav"/>
  <Override PartName="/ppt/media/zipdn10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F50-FA9E-4378-A280-04C07938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811-F851-4F45-AADA-DEB4FED0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A86-C25E-4AD9-9B2A-65D63D9E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720-703A-4B20-A023-74A751C9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F16-5A70-4C25-B991-897BD378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38D-ADCD-453D-B9CA-41AEC819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5044-2097-47A5-A97D-D34CC685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921-FDF9-4514-B9C2-7E3D8F2B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BAE4-0E93-43B6-9860-3029FC80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ECB-DEC7-4E61-B4EC-2E2CE993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10C-5EAB-4F9F-AF19-7FF37B55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6BC-912F-4160-B961-E4F01577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9BEF-25B0-4746-85D8-2AFA74D69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caralarmoff.wav"/><Relationship Id="rId4" Type="http://schemas.openxmlformats.org/officeDocument/2006/relationships/audio" Target="../media/jetflyby2.wav"/><Relationship Id="rId5" Type="http://schemas.openxmlformats.org/officeDocument/2006/relationships/audio" Target="../media/zapbig0g.wav"/><Relationship Id="rId6" Type="http://schemas.openxmlformats.org/officeDocument/2006/relationships/audio" Target="../media/caralarmoff.wav"/><Relationship Id="rId7" Type="http://schemas.openxmlformats.org/officeDocument/2006/relationships/audio" Target="../media/jetflyby2.wav"/><Relationship Id="rId8" Type="http://schemas.openxmlformats.org/officeDocument/2006/relationships/audio" Target="../media/zapbig0g.wav"/><Relationship Id="rId9" Type="http://schemas.openxmlformats.org/officeDocument/2006/relationships/audio" Target="../media/hzipup01.wav"/><Relationship Id="rId10" Type="http://schemas.openxmlformats.org/officeDocument/2006/relationships/audio" Target="../media/bserie06.wav"/><Relationship Id="rId11" Type="http://schemas.openxmlformats.org/officeDocument/2006/relationships/audio" Target="../media/caralarmoff.wav"/><Relationship Id="rId12" Type="http://schemas.openxmlformats.org/officeDocument/2006/relationships/audio" Target="../media/zipdn102.wav"/><Relationship Id="rId13" Type="http://schemas.openxmlformats.org/officeDocument/2006/relationships/audio" Target="../media/zapbig0g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zapbig0g.wav"/><Relationship Id="rId17" Type="http://schemas.openxmlformats.org/officeDocument/2006/relationships/audio" Target="../media/jetflyby2.wav"/><Relationship Id="rId18" Type="http://schemas.openxmlformats.org/officeDocument/2006/relationships/audio" Target="../media/jetflyby2.wav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zipdn102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zapbig0g.wav"/><Relationship Id="rId11" Type="http://schemas.openxmlformats.org/officeDocument/2006/relationships/audio" Target="../media/jetflyby2.wav"/><Relationship Id="rId12" Type="http://schemas.openxmlformats.org/officeDocument/2006/relationships/audio" Target="../media/zapbig0g.wav"/><Relationship Id="rId13" Type="http://schemas.openxmlformats.org/officeDocument/2006/relationships/audio" Target="../media/jetflyby2.wav"/><Relationship Id="rId14" Type="http://schemas.openxmlformats.org/officeDocument/2006/relationships/audio" Target="../media/zipdn102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zapbig0g.wav"/><Relationship Id="rId18" Type="http://schemas.openxmlformats.org/officeDocument/2006/relationships/audio" Target="../media/jetflyby2.wav"/><Relationship Id="rId19" Type="http://schemas.openxmlformats.org/officeDocument/2006/relationships/audio" Target="../media/zapbig0g.wav"/><Relationship Id="rId20" Type="http://schemas.openxmlformats.org/officeDocument/2006/relationships/audio" Target="../media/jetflyby2.wav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zipdn102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audio" Target="../media/zapbig0g.wav"/><Relationship Id="rId14" Type="http://schemas.openxmlformats.org/officeDocument/2006/relationships/audio" Target="../media/jetflyby2.wav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zipdn102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zipdn102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zapbig0g.wav"/><Relationship Id="rId11" Type="http://schemas.openxmlformats.org/officeDocument/2006/relationships/audio" Target="../media/jetflyby2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zipdn102.wav"/><Relationship Id="rId15" Type="http://schemas.openxmlformats.org/officeDocument/2006/relationships/audio" Target="../media/zapbig0g.wav"/><Relationship Id="rId16" Type="http://schemas.openxmlformats.org/officeDocument/2006/relationships/audio" Target="../media/jetflyby2.wav"/><Relationship Id="rId17" Type="http://schemas.openxmlformats.org/officeDocument/2006/relationships/audio" Target="../media/zapbig0g.wav"/><Relationship Id="rId18" Type="http://schemas.openxmlformats.org/officeDocument/2006/relationships/audio" Target="../media/jetflyby2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zapbig0g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audio" Target="../media/jetflyby2.wav"/><Relationship Id="rId9" Type="http://schemas.openxmlformats.org/officeDocument/2006/relationships/audio" Target="../media/zapbig0g.wav"/><Relationship Id="rId10" Type="http://schemas.openxmlformats.org/officeDocument/2006/relationships/audio" Target="../media/jetflyby2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zapbig0g.wav"/><Relationship Id="rId3" Type="http://schemas.openxmlformats.org/officeDocument/2006/relationships/audio" Target="../media/jetflyby2.wav"/><Relationship Id="rId4" Type="http://schemas.openxmlformats.org/officeDocument/2006/relationships/audio" Target="../media/zapbig0g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zipdn102.wav"/><Relationship Id="rId9" Type="http://schemas.openxmlformats.org/officeDocument/2006/relationships/audio" Target="../media/zapbig0g.wav"/><Relationship Id="rId10" Type="http://schemas.openxmlformats.org/officeDocument/2006/relationships/audio" Target="../media/jetflyby2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054160" y="1293840"/>
          <a:ext cx="5105520" cy="4908600"/>
        </p:xfrm>
        <a:graphic>
          <a:graphicData uri="http://schemas.openxmlformats.org/drawingml/2006/table">
            <a:tbl>
              <a:tblPr/>
              <a:tblGrid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041560" y="3773520"/>
            <a:ext cx="5154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599000" y="1294920"/>
            <a:ext cx="0" cy="492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oordinat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78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nguiat Bk BT"/>
                <a:ea typeface="Lucida Sans Unicode"/>
              </a:rPr>
              <a:t>Horizontal 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05440" y="330660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278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nguiat Bk BT"/>
                <a:ea typeface="Lucida Sans Unicode"/>
              </a:rPr>
              <a:t>Vertical 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11600" y="110340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06720" y="416088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/>
          <p:nvPr/>
        </p:nvCxnSpPr>
        <p:spPr>
          <a:xfrm flipV="1">
            <a:off x="3973680" y="3811320"/>
            <a:ext cx="592560" cy="545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0" y="6278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nguiat Bk BT"/>
                <a:ea typeface="Lucida Sans Unicode"/>
              </a:rPr>
              <a:t>Ordered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245200" y="2376360"/>
                <a:ext cx="14684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430960" y="2558880"/>
                <a:ext cx="5047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4659480" y="3629160"/>
            <a:ext cx="168264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039840" y="3637080"/>
            <a:ext cx="145260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965920" y="2571840"/>
                <a:ext cx="55080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 flipV="1">
            <a:off x="4716360" y="2128680"/>
            <a:ext cx="0" cy="1422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2840" y="3882960"/>
            <a:ext cx="0" cy="14810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200"/>
                            </p:stCondLst>
                            <p:childTnLst>
                              <p:par>
                                <p:cTn id="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50"/>
                            </p:stCondLst>
                            <p:childTnLst>
                              <p:par>
                                <p:cTn id="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5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3680" y="1452600"/>
          <a:ext cx="5105160" cy="4908600"/>
        </p:xfrm>
        <a:graphic>
          <a:graphicData uri="http://schemas.openxmlformats.org/drawingml/2006/table">
            <a:tbl>
              <a:tblPr/>
              <a:tblGrid>
                <a:gridCol w="31896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450720" y="3932280"/>
            <a:ext cx="5154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008160" y="1454040"/>
            <a:ext cx="0" cy="4929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Give the location of each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14960" y="34653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21120" y="12621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032520" y="1427040"/>
                <a:ext cx="24336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3540240" y="2903400"/>
            <a:ext cx="203040" cy="203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722760" y="2397240"/>
                <a:ext cx="5713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359400" y="2290680"/>
            <a:ext cx="24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right 2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19320" y="3933720"/>
            <a:ext cx="638280" cy="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641760" y="3042720"/>
            <a:ext cx="0" cy="90036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18440" y="2835360"/>
            <a:ext cx="21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up 3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027840" y="3668760"/>
                <a:ext cx="28922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,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1951200" y="2604960"/>
            <a:ext cx="203040" cy="2034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442880" y="2155680"/>
                <a:ext cx="5320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438960" y="4432320"/>
            <a:ext cx="24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left 3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023920" y="3927600"/>
            <a:ext cx="959040" cy="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97640" y="5019840"/>
            <a:ext cx="21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up 4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052720" y="2744640"/>
            <a:ext cx="0" cy="11908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8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63680" y="1452600"/>
          <a:ext cx="5105160" cy="4908600"/>
        </p:xfrm>
        <a:graphic>
          <a:graphicData uri="http://schemas.openxmlformats.org/drawingml/2006/table">
            <a:tbl>
              <a:tblPr/>
              <a:tblGrid>
                <a:gridCol w="31896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450720" y="3932280"/>
            <a:ext cx="5154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008160" y="1454040"/>
            <a:ext cx="0" cy="4929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Give the location of each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14960" y="34653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1120" y="12621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032520" y="1427040"/>
                <a:ext cx="24336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4818240" y="3208320"/>
            <a:ext cx="203040" cy="203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021280" y="2682720"/>
                <a:ext cx="5302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359400" y="2290680"/>
            <a:ext cx="24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right 6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9320" y="3933720"/>
            <a:ext cx="1916280" cy="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932360" y="3319200"/>
            <a:ext cx="0" cy="62388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18440" y="2835360"/>
            <a:ext cx="21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up 2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072120" y="3668760"/>
                <a:ext cx="2801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505400" y="4738680"/>
            <a:ext cx="203040" cy="20304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673520" y="4883040"/>
                <a:ext cx="5731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438960" y="4432320"/>
            <a:ext cx="24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right 5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96120" y="4991040"/>
            <a:ext cx="23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down 3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13200" y="3927600"/>
            <a:ext cx="1609560" cy="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05480" y="3925800"/>
            <a:ext cx="0" cy="8874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3680" y="1452600"/>
          <a:ext cx="5105160" cy="4908600"/>
        </p:xfrm>
        <a:graphic>
          <a:graphicData uri="http://schemas.openxmlformats.org/drawingml/2006/table">
            <a:tbl>
              <a:tblPr/>
              <a:tblGrid>
                <a:gridCol w="31896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450720" y="3932280"/>
            <a:ext cx="5154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008160" y="1454040"/>
            <a:ext cx="0" cy="4929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Give the location of each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4960" y="34653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21120" y="12621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884920" y="1427040"/>
                <a:ext cx="325908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2263680" y="4427640"/>
            <a:ext cx="203400" cy="203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814400" y="4603680"/>
                <a:ext cx="5302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359400" y="2290680"/>
            <a:ext cx="24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left 2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72280" y="2835360"/>
            <a:ext cx="24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down 2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278400" y="3668760"/>
                <a:ext cx="2387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F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909880" y="2604960"/>
            <a:ext cx="203040" cy="2034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154320" y="2097000"/>
                <a:ext cx="4492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438960" y="4432320"/>
            <a:ext cx="24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up 4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70240" y="3925800"/>
            <a:ext cx="0" cy="59868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342880" y="3927600"/>
            <a:ext cx="639720" cy="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011400" y="2714400"/>
            <a:ext cx="0" cy="11905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2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3680" y="1452600"/>
          <a:ext cx="5105160" cy="4908600"/>
        </p:xfrm>
        <a:graphic>
          <a:graphicData uri="http://schemas.openxmlformats.org/drawingml/2006/table">
            <a:tbl>
              <a:tblPr/>
              <a:tblGrid>
                <a:gridCol w="31896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50720" y="3932280"/>
            <a:ext cx="5154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008160" y="1454040"/>
            <a:ext cx="0" cy="4929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Graph and label each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14960" y="34653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21120" y="12621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022800" y="1414440"/>
                <a:ext cx="24796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3554280" y="2293920"/>
            <a:ext cx="203400" cy="203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673440" y="1735200"/>
                <a:ext cx="1714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6359400" y="2290680"/>
            <a:ext cx="24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right 2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19320" y="3933720"/>
            <a:ext cx="638280" cy="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641760" y="2419200"/>
            <a:ext cx="0" cy="152424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18440" y="2835360"/>
            <a:ext cx="21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up 5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865840" y="3668760"/>
                <a:ext cx="32148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311120" y="5043600"/>
            <a:ext cx="203400" cy="20304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17680" y="5311800"/>
                <a:ext cx="2412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6438960" y="4432320"/>
            <a:ext cx="24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left 5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399680" y="3927600"/>
            <a:ext cx="1582920" cy="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65880" y="5019840"/>
            <a:ext cx="23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down 4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13000" y="3925800"/>
            <a:ext cx="0" cy="11923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6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2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3680" y="1452600"/>
          <a:ext cx="5105160" cy="4908600"/>
        </p:xfrm>
        <a:graphic>
          <a:graphicData uri="http://schemas.openxmlformats.org/drawingml/2006/table">
            <a:tbl>
              <a:tblPr/>
              <a:tblGrid>
                <a:gridCol w="31896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450720" y="3932280"/>
            <a:ext cx="5154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008160" y="1454040"/>
            <a:ext cx="0" cy="4929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Graph and label each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14960" y="34653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1120" y="12621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067440" y="1414440"/>
                <a:ext cx="23893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048120" y="2359080"/>
                <a:ext cx="1631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 flipV="1">
            <a:off x="3003480" y="2970000"/>
            <a:ext cx="0" cy="92844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05560" y="2298600"/>
            <a:ext cx="21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up 3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935680" y="3668760"/>
                <a:ext cx="3076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029120" y="4954680"/>
                <a:ext cx="2044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6438960" y="4432320"/>
            <a:ext cx="24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right 7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65880" y="5019840"/>
            <a:ext cx="23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down 3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56360" y="3938760"/>
            <a:ext cx="0" cy="9270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13200" y="3927600"/>
            <a:ext cx="2246040" cy="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40440" y="4751280"/>
            <a:ext cx="203040" cy="2034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87560" y="2917800"/>
            <a:ext cx="203400" cy="203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2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3680" y="1452600"/>
          <a:ext cx="5105160" cy="4908600"/>
        </p:xfrm>
        <a:graphic>
          <a:graphicData uri="http://schemas.openxmlformats.org/drawingml/2006/table">
            <a:tbl>
              <a:tblPr/>
              <a:tblGrid>
                <a:gridCol w="31896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50720" y="3932280"/>
            <a:ext cx="5154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008160" y="1454040"/>
            <a:ext cx="0" cy="4929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Graph and label each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14960" y="34653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21120" y="12621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878440" y="1473120"/>
                <a:ext cx="3032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668760" y="5784840"/>
                <a:ext cx="19587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359400" y="2290680"/>
            <a:ext cx="24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right 3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19320" y="3933720"/>
            <a:ext cx="957240" cy="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57880" y="283536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down 6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979960" y="3668760"/>
                <a:ext cx="29847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F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054080" y="1562040"/>
                <a:ext cx="1922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6438960" y="4432320"/>
            <a:ext cx="24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left 1 u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674800" y="3927600"/>
            <a:ext cx="308160" cy="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65880" y="5019840"/>
            <a:ext cx="23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up 5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73680" y="3925800"/>
            <a:ext cx="0" cy="184320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59200" y="5661000"/>
            <a:ext cx="203040" cy="203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692440" y="2397240"/>
            <a:ext cx="0" cy="153504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7040" y="2301840"/>
            <a:ext cx="203400" cy="2034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7714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23, 13 – 1 #1 – 10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25, 13 – 2 #1 – 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 12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2-22T18:50:16Z</dcterms:modified>
  <cp:revision>109</cp:revision>
  <dc:subject/>
  <dc:title>Slide 1</dc:title>
</cp:coreProperties>
</file>